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2AA7-91D1-4C9E-8E56-555DC5A8D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80AE-81A4-41AA-BB85-69E5DB52F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AB04-3633-48B9-AAE7-DF7B0C487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EA4D-62DE-4EA7-A79E-46C50484F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2A01-9F10-4531-B36D-0F74B4209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A8B6-96A6-43AA-96A9-970417E74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0FEC-7B47-4AA7-9BC5-7D88AB9E1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C511-87D3-4003-A79A-09D969F50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8361-5CA0-4B49-B735-C88944BD9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3096-F8F9-4BC9-B118-8A8E094E1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AA77-1F4A-4810-9408-20043873B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9641-A439-4987-8712-E716EEFD4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37374-73C3-47D8-98E6-04C2FEF5EC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PO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ZIŢII COMP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400" y="41911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 de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ogică şi argumentar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clasa a IX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Elena Lupşa, Victor Bratu, Maria Dorina Stoic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533520" y="380880"/>
            <a:ext cx="4876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ba de evaluare a competenţelor digitale – document de lucr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8"/>
          <p:cNvSpPr/>
          <p:nvPr/>
        </p:nvSpPr>
        <p:spPr>
          <a:xfrm>
            <a:off x="533520" y="380880"/>
            <a:ext cx="4876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ba de evaluare a competenţelor digitale – document de lucr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0"/>
          <p:cNvSpPr/>
          <p:nvPr/>
        </p:nvSpPr>
        <p:spPr>
          <a:xfrm>
            <a:off x="533520" y="914400"/>
            <a:ext cx="449568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mba  naturală conţine expresii lingvistice care nu pot fi formalizat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[...], în cadrul unei logici a termenilor şi prin intermediul propoziţiilor categorice. O expresie propoziţională precum: - Dacă este prea frig, nu voi merge la plimbare - nu poate fi abordată ca o propoziţie categorică, în acest sens fiind creată o altă logică numită fie „logică propoziţională”, fie „logica propoziţiilor compuse”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umele de „propoziţie compusă”, provine de la faptul că în structura unei propoziţii compuse se pot pune în evidenţă cel puţin o propoziţie simplă şi cel puţin o constantă logică. [.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opoziţiile compuse se obţin aplicând anumite operaţii logice la propoziţiile simple, iar mai precis este vorba de a aplica aceste operaţii la valoarea de adevăr a propoziţiilor simple.  De aceea, propoziţiile compuse sunt tratate ca funcţii de adevăr, respectiv valoarea de adevăr a unei propoziţii compuse depinde de valoarea de adevăr a propoziţiilor simple. [...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limbile naturale, mecanismul negării este neuniform, respectiv modul de construire a negaţiei unei propoziţii este în funcţie de forma logico-lingvistică pe care propoziţia o are dej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tfel, propoziţia negativă „Nu p” este echivalentă, în esenţă, cu „Nu este adevărat că p”, dar, în anumite contexte, diferenţa dintre cele două moduri de exprimare este evidentă. [..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hiar dacă din punct de vedere gramatical se spune despre conjuncţie că leagă părţi de propoziţie, din punct de vedere logic este vorba de legarea a două propoziţii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u toate acestea, conjuncţia gramaticală „şi” nu îndeplineşte întotdeauna rolul unei conjuncţii logice. [..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2" descr="comp_i"/>
          <p:cNvPicPr/>
          <p:nvPr/>
        </p:nvPicPr>
        <p:blipFill>
          <a:blip r:embed="rId1"/>
          <a:stretch/>
        </p:blipFill>
        <p:spPr>
          <a:xfrm>
            <a:off x="5791320" y="1981080"/>
            <a:ext cx="267624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533520" y="380880"/>
            <a:ext cx="4876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ba de evaluare a competenţelor digitale – document de lucr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533520" y="1295280"/>
            <a:ext cx="761976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oprietăţile principalilor operatori propoziţional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egaţ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incipiul terţului exclu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incipiul noncontradic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egea dublei negaţi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juncţ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dempotenţa conjunc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tragerea conjunc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utativitatea conjunc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ociativitatea conjuncţie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mplicaţ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nzitivitatea implica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trapoziţia implica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stributivitatea implicaţiei faţă de conjuncţi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stributivitatea implicaţiei faţă de disjuncţi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uest</cp:lastModifiedBy>
  <dcterms:modified xsi:type="dcterms:W3CDTF">2012-06-15T12:32:59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